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6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E59D-476A-43E6-BA0F-CC8730C8D8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AE29-6C8E-4A98-9ECB-640EF0C83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5627-1CEC-4A0D-BB95-2825E2AE2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6FA7-F861-4188-B93F-572345C26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9119-E83A-475B-9E59-4A40A91F0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88B-26F8-4A46-98D3-FA07659B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887-93B2-4AAD-8305-6DA429F9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DC046-1690-4BF7-8368-75984982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56010-5B05-482A-A379-00589F20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2ED59-42D8-4AB0-988D-A0DF5943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42FAB-255B-445E-BC06-27BE09E9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DAF3E-98FE-4FBA-9881-2F5DABDB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6136E-BD29-41D8-B0A7-9E302AE2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DACF9-10E5-4F57-8837-1E663526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56FBD-B9AB-4E34-B879-77C3CA3E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AAEFD-0A08-4218-A685-ED3C61E8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E3EC6-7914-4A3C-B642-806A5CC1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8B3-11BC-4849-84D3-231441A6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15145-B785-49A5-9183-FF62CEF6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718EC-D662-46ED-85FD-806BBC60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9B3AA-E8AB-4C95-8583-B752E221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8DC4D-5C98-4096-8A4E-7F09E3F3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3EF24-CEBF-41D4-9F15-45A03EDC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D9A99-E5AF-4E79-8970-898683D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4365A-6A9C-417E-A3E5-01B2868C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D5B2D-5DC7-43C7-BB54-C007681C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9E28E-4B4E-4316-9C6C-C31D78C2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95902-22DC-4185-A7FE-44DE9EC9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335-DF35-4640-A891-C239BC72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104F5-69CC-4DCF-8346-671A3FFC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BBBE3-9FFF-4715-ADAE-40FCD802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3C600-9D18-4AB4-977D-215A9BF2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24563-216D-4EC3-AE0A-228273C7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F391E-BA75-47A1-AFA7-C77E90DF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B87B9-03A1-4730-8DFA-B1E9D2C4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69169-5EA0-4227-9DAA-A0795E30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DD21C-B54F-4C9C-81BC-7B804466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A4345-FD32-4F8A-A0C1-AEBBE844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DCCAB-A55E-4D1D-B667-BC613E83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4309-84E6-4E17-ABF9-CB54BFA7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6CD73-1C76-4BC0-ADE9-96471885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EC453-58EB-4BB2-959E-982D68F2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61776-B966-43B9-9E68-B3B56D4F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55A12-3DD5-4686-B9B5-9DB2CEAD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1ABE5-56E6-4635-8FA2-38EE97F7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AE305-AB58-4110-9C59-BEB9BE39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33337-8454-49FF-9A63-EC88318B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F8937-452B-4211-9AD4-90754460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3DA3E-869D-4B1E-B01F-56CA122A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446E0-568C-49C7-B532-C27C035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1F6B-EBB3-413B-A233-3DD05B4A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C8CC3-B8AF-4D58-9560-F6496C8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393CF-04CB-4F93-9027-86B62209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55136-5476-464B-BF69-4C679157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7D7F8-1047-4DE0-9E57-EA3EA3EF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51EA1-54A2-414B-B57E-88DABA07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DD0B3-B960-415C-8C57-166C17EF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CB63D-0947-4C92-BB57-CEB860B3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8519C-3E10-49FE-A4F6-4E627360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34DDF-92FF-4211-9DF5-7C41037B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113F7-24E5-4A50-BEC3-4A4F1D49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7736-2389-4B60-865C-6974331E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33DB3-27BB-445B-A40F-E0CBB76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D1BE5-ABD0-4FA9-A401-C981F765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04538-D58F-4AC4-AC99-A3870752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21967-4C02-4F74-9A46-E25209D0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EA392-87C1-4DBC-950C-073C07B8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39E84-D1C9-48DB-AD48-273D3F2C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CE894-96DC-449C-9629-4F7C1D3D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E0C1D-B4AA-494E-906B-50354757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CFC3A-5F7A-4DD6-B6A3-8BF582BD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A3D14-690E-4691-9BA2-ED26D7A9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9EBA-8007-491D-93E6-EAE8C22E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8A4CA-4E8A-4913-97FB-01390A0F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1808F-5064-41A3-9CC7-0BAE4593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581F4-0B7B-49E3-8B0D-778AADB5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F6232-0AC1-4FC8-9997-70819279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E24B8-833A-47A3-9B5D-71A91E20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BCA68-3394-43BB-BF28-FC37569B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F2744-BEC1-4517-8CF7-0101DD4F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F95CD-F57B-4552-B124-D3D37A6D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FB880-0723-4775-A5E4-BDB517EA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ED3E1-A2BE-4E7F-82AC-5354B71F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2085-5486-4F33-A1DB-F0F5FC62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AA767-3512-44CF-AEEC-5B2B3566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9BC6DA-06A1-48F1-83DF-0F6B05DA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B82F7-C5EF-4D38-AC30-C9E963F2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0690C-D9D2-420E-86B5-FAF5EC5B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5A8D0-8480-4298-A32C-E6CB3011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DF940-682A-499C-AB3B-5395F10A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7BD99-A80D-4F92-985D-F5B3E2E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D5F78-8BE6-4876-A3E2-EDFE2854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5EEA7-A109-4C63-8155-0A83E3B7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F143B-DD92-4910-8E5C-260DDB13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A8AA-DAE5-4F70-BA76-ADC6E00F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BAD68-B238-49BA-8240-662D33B1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5F6F29-DE53-47D6-8143-163F4678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63859-DB85-4FC0-A134-A22C88AA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2597E7-6105-4833-8A2C-00F79583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3BB1F-8B25-4CD9-A458-901E3577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38D34-434C-40E8-A1FD-BB0D0F15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F9D4AF-9660-4F4E-93C3-59FBC14D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47CF9-4C03-427D-B62D-A17C0D91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DA759-5110-4EC5-A8D3-4DD6C806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ACCCC9-318A-46E1-A1AE-819C9032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73CF-AB73-41EF-85E0-C16CABC4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FA784-7424-46A1-914B-C3796851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9AE9B9-56D8-466B-A58F-1D792BC8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AC1C2-B0A8-4655-AF9C-18DBB59C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FB748-2962-46CE-B60C-37336AE7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705D3-B98A-41DA-9D10-65836B94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E2D88-6179-4B05-A972-C7EFC296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5BBD5-3F04-459A-BF1D-9B403CF0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31B79-BE4B-49FF-9ABF-9F20DA65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9B34F-61BA-4EE5-84F8-4FC5FF12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34620-DBFE-41A2-8B3B-7D60C612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76F-F2CB-4898-B438-F6B7CA50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FFDB-10A9-45E1-8AAA-129C0AAD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2005E-28F0-4ADB-9602-C5888E0A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E696EF-EE25-489E-B190-1E1409F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DE784-A471-418F-AA3F-348E7DD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88CA1-004E-4A28-A2F8-6A6D070E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C18BB-6214-4D10-A4F6-11021357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E07CB9-9BCF-4F48-9E24-DF2CB0E1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C0A226-FB98-4305-A3EF-F71AAF0A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B679AD-DCC0-4DEA-807A-C6BBA9AD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9519B-BB40-4658-9943-21CBE066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53919-F84F-4C1E-8AFF-1F070E4B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D34D-D25C-4888-BD23-CE73DEFF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A2684-969D-4738-B5A0-AA4D8B99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3E30F-BA4E-4678-B1C2-3F17D9B4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6A548-6DCE-47BF-8F04-9D581607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05724-767D-4BD0-9232-A7EC4232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1CFFD-A6D5-4223-8518-0D272710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0319B-9EB6-42A1-9088-A90CDCE0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730A64-939A-470F-895E-DF87C3DB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D3043-EE91-45B4-BE53-EE7E7A87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ACE17F-288B-4067-B79C-FBE45D4A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17EE80-B4E5-425E-8F89-52B2E9A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4A8D-643F-4507-AC05-9C80C596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A0EB9-1FE4-422C-9B2B-82248C8F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6F193A-0A93-47BE-A39C-0653BAD4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DEB2B-1965-469E-B7D8-C42D9A88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055E68-99AA-40E3-9B6E-5D789F6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DD8B42-2AAC-4B3C-8AF1-91805B05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FA0C9F-B149-4035-BFF6-F10E01FF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0CDD4-4DCA-415F-B9CA-E999941D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12AE77-47B3-47C4-A86C-EB842683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A77029-0AEB-4794-9005-5167FD28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69924-4719-4E79-ADC4-3A96FF03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8A8E-F43A-4B98-B830-083BDCE4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5178AB-311C-4370-92B9-FFB93838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76675-8956-4A03-B6F3-DDA3A21A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0B6AC5-DAD6-4BA2-AED3-83CE266E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CF0101-5B7E-412C-B55E-DF00F2B5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74123D-FB2E-4C65-9F23-3E076EA5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B4EE20-1CD8-43E8-82A9-96D9F068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13B2ED-D5FB-4D62-B988-66B26795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EB39F-A5C5-42FF-9995-20EE30F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8B47B5-4AFE-494B-BA83-74C36CED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AEBD3-DA0D-49A3-B7FC-6D0F9068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42F8-41E8-4657-AD8A-8464DF2D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CC311-A0EE-4DBB-A1F7-5F7A75BD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E5D6ED-8F39-4734-83DD-552DDC40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7DBF4-68AC-4A54-B14F-7BCB5E08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CA3647-576D-47B7-BEC7-10912FB6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929E1-678F-4B07-8B76-179C7614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D6F98-EE70-4201-AB86-D16C4AA9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2FBA7C-0D26-4013-83A1-21691901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A90C3-41D9-4AC0-8E6C-26726AA7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E23581-2078-47BD-AB3B-458BD7F4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99702D-5C68-4058-8395-F78C95A1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44E7-82C6-483B-A450-C289BB4D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AE099E-490B-437A-B7A5-A7398219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25E74-1375-4D6C-82FB-53037CA3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92D072-142C-4243-B949-016A7812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4FA3BC-E837-4FDE-A420-91AD0CA8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58C303-156B-4AA3-8E65-0F07F63E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28F0AA-446E-482E-9A07-53DF6D65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D20FCD-1E2B-48D5-BB54-CE7C321A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7E2E93-CF2A-4FF3-B73F-41DA085C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C65AF3-BCAC-4648-BC48-463977AA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828F23-E684-4088-A7B2-73E3D389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8F04-6E07-4BAE-90EC-8CA5F101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14E1A1-2186-4B4D-94CE-35D8019C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9B3E8A-4792-488E-8F91-EF9414F3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2FF67B-47AF-49EF-8B24-6C065D67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A5E866-0CE8-41D6-82EA-B9362835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C44E08-442C-442A-AC31-92884E18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3F184A-82D4-4ECB-8388-D6C7CCB2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B0ABC3-758A-4F69-8DFF-13BAE686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711069-CDD0-4F6F-AA29-455F559D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217305-D17F-4BB9-835E-C0AD692E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5F64D3-3B57-42BB-9175-FED7E62D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2BC3-FAF3-49FE-AEC8-E510E50D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38BEFE-5C59-4526-9953-348A934A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1955F9-6335-4235-88D0-7913AC2E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1D69E3-C40C-4B9D-BCF7-29922EAB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009D38-5A16-4B2D-9E39-0CCFF6F7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FD5932-C765-4FD5-B6B1-315891E3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50574C-358E-434D-BD05-622B89BC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6AD39-C065-40DD-BB93-558D8A13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5D1F93-F821-440E-A73D-615F1AD5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861A38-0914-40DC-8E5D-77052BD6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4D6B43-2557-4341-A317-B803CF2A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5836-678C-4BC5-AE05-B305E0FF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7545F2-9663-45BD-ABAA-1D729975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817137-8AEB-4379-BC4D-AF7ADB41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671F7E-B2E4-4F7E-83E9-91A4B796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413BAD-80B8-4D12-B9FF-62DCFBEB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B45C95-8FD0-4E1E-980F-42A43E71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A441B9-338A-4ABC-B5A6-47A34C1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890179-9518-45DF-92AB-4B44E8B8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49C883-CBE2-45C7-8FB2-D4117202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8A78DA-CDCA-4B77-B1A3-F5312599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023F10-BFB8-4816-83E0-C9C5C08D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54E5-3D4F-41C9-997A-CD344622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D4E8A7-17B0-43D5-9704-D6E1AD55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FC0902-2FF0-4DC3-88B6-97141692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76F175-848F-401A-AE75-7686911E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5E6361-D736-4859-BC23-72059469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3004E3-DC05-46DF-997D-76CDAB69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63C2B6-95FE-4125-9839-70D03F5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9C1D2C-F778-40F0-BB06-47B029F5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322471-64AC-402B-87A9-1E09B175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C8C850-AF87-4D6F-B43C-617673E7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961312-7961-4235-88E3-4284CDAD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9C6-D48F-4EF5-A40B-F263F7E3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7B6C-AA3E-4C8A-B37F-9D541A27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9FF798-0351-4D52-B3A8-189AD17A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B8F499-ECEA-460D-B3BA-5E619DE8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91CA41-143C-4A40-B155-695AC5E2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88F89C-48B7-4A20-98E8-915EF01A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89F4CF-17E7-4FEA-9D91-FC09A1EC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C452A9-A14F-425C-A719-9B3E6A05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251674-49BC-49F0-A784-3C092CEB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8E809D-9461-4809-8231-8170AA36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D0EF63-DEAD-4792-8B98-B3CA491E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DF25A6-9536-4FAD-AF01-2BA32C3F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6B27-ACFB-49CF-853E-C7199CAB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18C923-96E5-4348-AECB-1771F2EC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C5E332-3F83-46F2-8684-B370DF59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2BD096-4C3F-4239-9A8B-E0609017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484F75-5684-49B3-B559-0A316EE4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FA7170-2C11-4E92-85BF-03A2EB1F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DC109A-2179-48FB-AC1B-012E8371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AA376F-1A40-4174-822B-9F203F36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056521-D001-433C-A990-ED449E72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0708AB-B983-4830-8B18-EE4A387D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E7023B-C790-4781-B61D-0C86267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3EC3-7DA0-4FEE-B4C1-4B7AE9B6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FF6774-DF1E-4976-AB04-6EB063F2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417AD6-7FA2-4779-9125-F2288FBF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F2D165-F2F8-4ECE-B9D5-94BBC4B5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881DAE-AED9-42FB-A334-AD51F5EB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8A2317-0B3F-4800-AF28-10980AA3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A8CA57-49D8-4659-B565-343C818D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E55E6D-0861-4A70-9230-71259824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F39657-9DA0-48D0-9EF0-7E84259F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8DC21C-5ACB-4D4F-B962-B5C2760F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BA7DDF-6079-431A-9D1B-31FBE99F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C722-E171-48F5-A421-76F9AB60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E97BFC-7BAB-4766-A096-A24C32D4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05B143-8894-4A64-A4C4-7426561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EC6DC9-7094-4384-8FA4-92729B65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BDB294-9851-47EB-A1D1-C195C8AD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E85109-4B6A-456E-BEA5-11E66477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CAD5D1-5D6A-47EE-8B22-BA71FA0A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54D68C-C82E-4237-B892-D01A1CDC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D3B904-11CC-4D24-B674-E13BA790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FB26F1-CA05-47DA-8BEA-BC1FDBF9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71D11A-707F-430B-952C-5AF4DB3D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D53DB-AFA2-4B4C-9F88-4AFE0F0A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B2A493-9231-4C76-8986-494904EE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09B812-16E5-4E1D-8B7E-D79BC6B2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935EB2-3B15-4CC2-AE5D-7C118544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C5D371-91B2-4498-B8B5-A2A3B7CF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FA7B72-032F-482D-931E-13B90C4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991B83-5743-4382-B33D-F2807BFA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C084F0-C0EC-4AD6-A5BB-EEC795A5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E9853B-7E04-458F-A9D5-97501D23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A5E9B5-4C37-4A1B-AFFB-974E4E67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9C034C-F135-48FA-ABEB-DA1150A4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AFA4-2528-4306-A6B9-D97B8EAB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3E71F8-B622-4532-AC18-4BCE5938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85C765-09FD-48ED-AA6D-4D8DCD85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7A2C7B-4B70-41FD-95A4-7E0C5C37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6B55EC-FFBD-4645-81FD-3FC175D2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4920DF-2A5A-4692-A4B3-5A63E27F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FFDA70-A447-477A-92D8-46EE4C42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018247-395F-48B4-963C-C59CCBCE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04667A-9DCF-4A54-8F6C-8B0C1BBD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D41F46-4BFF-4500-A5F6-AA0A707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52A70D-5873-403B-B697-74F3FCA2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D2E2D-99A1-473C-8500-8EE986E6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443C5E-72A2-4016-A595-D3466EC9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8FDE15-7B24-442C-A84F-ADDD2D9E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38AD3F-DC5D-427D-8663-8E116511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DE82DD-8904-460A-8B3A-A1E18EF7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931A61-FEEA-4CD1-AB1B-4459E9B2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1F3A4A-E019-4250-A21C-1E384180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0069CF-32DF-460A-9E59-72D069EF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D91484-7BB1-4226-AAF2-A5DC78DB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85126F-7533-42BD-84E8-BF6FC00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A892A0-610A-4831-884B-194301E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DA86-F4FB-4C25-A475-85032D84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89519E-A2E7-4684-A728-61E81815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CBB6E9-8C08-47B9-B1BC-D4A2A10A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C5A41F-82C6-40B4-8DCD-922E3FFC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557162-3B20-4238-84E9-EC9067AC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42CA83-FCD5-46B0-8EE0-CC267436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29C6A2-483C-4970-A8FB-E73667C2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D1ADB0-CEB0-4486-9618-AFA5029F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8BFF2C-8E3D-4810-95BF-DD85E926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719911-1B7D-4276-B127-B7FB6A57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A9EE9A-B22B-4AFD-AD01-06C70E7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9C9D-9272-4603-B6BB-7C2B43BB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FD689D-B74C-444C-8135-4B0ADCB5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8384C3-102C-4E95-9A5B-C95C7944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7A64CB-0C8F-4158-805B-1D15C2AA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A42E2D-EC5E-4279-B7E3-91FB8F99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689BC7-2983-4A61-A048-AC5B94DF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588B77-E7E2-4F96-86A6-7872EF5B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34005B-A745-4F6A-83A3-5C882587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B2D2EA-7B56-44B0-8AB7-ED117D27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9880C1-AF71-4887-AA6B-50347D4F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1064DA-ADBC-4577-AF39-1EA8B39C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63A1-C569-4CEC-8C83-A7D54F5E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7248F3-BB9C-4279-9AAE-09EB360B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8A5B2A-D1EB-4880-BD47-05C97AE0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D2410B-5C0C-46C2-86A7-F29C4B28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8D007A-7EEE-4BC0-B469-CF736E51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3F0D04-6580-4396-8C17-F6476E4F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C456A4-9908-4BAF-AE58-65FC2505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520069-1201-437F-B23C-56524D41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F5346C-C161-4BF4-B375-FDAFABB9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8D1A19-E862-4433-9983-6C44C87F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325953-438B-4FC5-B059-D9D3D292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2DF-F075-4B69-9CB7-F8926EC4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DF6AB-4EEF-4041-8E63-52796F96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B78235-AE24-415D-B37E-E9865F75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346EE7-3738-4823-8C08-49BA848F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5741F0-F5CF-40D7-BE24-7E1B6097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824EA8-FFA1-418A-AE9A-7AB968E8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C907C8-DE8A-44D5-9108-A14CD30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03D5F6-8615-48DE-95BE-6249C6B5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9704F0-94B6-4736-A399-0612B033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8BDEA3-8963-4C92-BEFE-66A70DED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FC6BE8-9E58-4C69-86E0-B154173C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3AD5CD-3EC0-4BD8-8DD3-ADF86A6D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D1942-CD5F-4DC5-9D0D-AF23B211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FECDA4-CA83-4EDD-84B2-E7570A42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371FCF-B67E-48FD-AA17-500EB80E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5EDAF4-9DFE-4471-AB27-B8324A09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2E0E5D-21F9-462A-94C9-0FA65FC2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971F82-B62E-4C36-B4DC-6796BE1A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9046C4-8121-461B-9EF1-5FA6D6F3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A28EB8-428A-46C1-BBE5-FEF1C715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2284C6-C458-4034-9250-42A16170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491CE9-8A14-4618-A7FF-EEC29018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6817BB-2CE4-4612-A308-16628C47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4083A-BBCB-4F94-8224-5060BE1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EEAA10-81E8-40FC-80A0-FFC4D702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31C95D-3F85-4E16-A367-0F4B8C53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108F8A-783E-434C-B7DB-D3744CF0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EDFCD7-9E3A-44A7-9FED-B2932504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56B53F-4985-473D-90A5-1BF7BDF8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ED652D-2513-4935-9C53-49F173BE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08252D-FC5B-4074-B205-C940288F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2B0899-CD36-44A0-BD05-B0E542E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CBB8CE-615A-48B0-8F58-DC178AF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BF62C8-36DF-4BBE-A53E-6D063124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4A10E-E829-4700-9B65-F7BB68FA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FD9650-84F9-42F7-B170-5312F2CB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A76CAF-743F-4ED5-AA67-32C2BE10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574EDC-FAF4-47CF-B414-6BCE387A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5D94AA-505C-4659-BBCC-D749BEA5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3A579C-6F17-453B-B236-B580A935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70ECE4-345A-4727-8E9F-C604A756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76DD9F-89B1-4F0D-8F5E-467B8EAA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AE591C5-41F2-4E5A-8C43-29CBEA7F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43EA9E-F8FD-4C3C-8F58-18393C83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346314-9A99-4463-92F4-1066FD9C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939B0-D52A-4155-8728-303D3E6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55FFCB-382C-41B8-BA21-C0F7911A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AF1F3A-F30D-4089-9573-66116251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60A606-2769-4AC3-84AC-88644DEE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B34653-91F8-4A49-AC79-868A4BB7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E51E0A-4E84-48C2-B366-DC7AAC35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5F4384-931F-4FC6-8695-2B23BBE6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37E7E0-C13A-4F53-A1D6-F7EB277E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FB0224-28C0-486A-8244-EE1B1CB1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3826BE0-A235-4038-A121-AA118DD5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468699-1900-4C3A-86FB-E99F26BA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8FBA4-D086-4B59-8155-4E1E4FC1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7ADF0D-24E1-40F1-A411-D66D7CB1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CD33FFC-903D-4E69-9234-BC6A4647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AF936C-BAEB-4591-BFFC-C16B153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5E1ADD0-026F-4E2D-B840-57856621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76D3C4-38B9-4572-8D5E-D4E71D68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C0F5A3-7561-40C2-97AA-783F99EF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C1649F-4F1B-444F-AD45-899A69F7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C928-2668-43A8-86D3-9D28792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737A-48E3-4F57-9B17-93983C32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0F437-3476-42B7-812D-BB9D64E6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59398-FAC9-4F14-98B8-CFC794D7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B32-B49C-4538-ACBF-E010E39F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5C72-09E4-454B-959B-38CB0801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77011-9D7D-4889-82DB-57F7FD46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04825-067D-4786-95A5-E79F2BEB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32FF3-4C2D-46CB-BDE5-62018904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FFA4-5286-46F7-A757-F46F33A9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63783-AFB6-4B90-8E94-8806E19C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F1C97-816A-4811-98D8-823723FE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0857F-2026-447C-AFC1-FE21AB7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9EAB7-2EF2-46FE-84F9-45592C88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D2A25-54B8-41F2-8185-F3F9D162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21B-FA9D-4634-A749-0AF4CF93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C7DD2-DCDB-45CF-9F24-65D5E07E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B87F2-F20B-4941-A8A9-330BECD0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781A-ED23-418B-ABEB-85DDBB0E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43520-E8A2-49DD-A2B6-F6F7F7B5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793D7-699C-4243-B25D-F6FD7EBE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84471-924B-41C0-B81D-581C3D5B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9B8BC-3423-4F04-9869-03F8B7CC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185D9-F95C-4D99-8922-0D25F89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045E1-2FB7-4CEB-8789-A18859D2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3880D-E4D3-4E47-8F5D-24400BF7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E47-12E0-4F75-9AF9-78536A3B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26B78-F262-4F38-AA04-99419E56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FC7B8-C823-45DB-9289-5C464D1B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E59F-DE14-4252-9B82-2EABD326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30064-CDD3-4C3B-A552-B44D2F7B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6B94C-C09E-46B8-87C8-EF6C9DC8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13CDB-9DD9-4982-931A-587EA579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A0016-8CFF-4886-8B5B-1C072F23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B0563-F58B-481E-9A99-DE3B31A9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03B20-CA6A-4EB6-919D-1F5AB68E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03D59-6CF8-4A1C-9FBE-B4545EC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B80-764B-40A6-BCD6-39B74EB9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BACAE-D905-4735-A533-019A116B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920D5-8BD3-4962-8C25-E2B693C5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5A3B7-7F42-404F-AEEB-19D6090E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FE0D4-3675-4435-B80A-DBB20DD3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A0583-F16A-449D-B63A-1CDD8B7F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70DD4-11F9-4723-A7C3-6A371668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90D8C-AB57-4E4D-807F-1C63B7C2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962F2-BF19-4671-BA1D-264B57FB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07CD9-9644-4EED-9B78-8D87D28E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C2D82-3BB9-499D-8A17-320C948F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DED-2A2B-457B-B171-E172CA8C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A704-C875-425B-9E4D-13653706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2D7DE-BF83-457E-AA68-C647A480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22AC9-6D0D-425F-93B6-FD28A0E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048DF-DBBA-4EA4-AC0D-92A0073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0157A-ADCA-4F22-A9EC-1D84DBAC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F8E65-8B9E-498E-ABEE-AA6F066F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F5537-7E5E-4522-9270-0B28038C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ED030-1AD6-4CF8-9E78-75F98F35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264A9-4858-4106-974A-F01AA8AB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6C798-2D16-44C2-A3AB-E0754AAC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DE65-6747-4AB2-8D0F-DB48F8F4BB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F550-A9BA-48C9-8605-C228AD0577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B69E-FB07-49DB-BDDB-7B4C9C581A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C318-9BB0-4029-8671-999CE39024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5F58-46CC-4285-9B9D-D105D15022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8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9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01CE-1EBE-4CBE-866B-858818AEBA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3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30F7-94C3-4F17-A2C5-5C4FDAC058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8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1834-407F-41DD-8AF0-0E55ABB9B4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730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Полилиния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733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4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5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CD9F-59F7-43F0-9E19-57DD30818E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8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979F-A417-48DD-B020-3830F84BFD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2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30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5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5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5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91E8-8EE8-4DB9-986B-C23BCF2F29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1FD1-147E-4E67-9F8B-64C402EAC56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7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5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5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6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AF34-DECF-4991-8355-9C39113CEF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6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6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6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A21C-79C8-46A5-81CC-6F93BA4310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6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6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6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6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80FD-BFD8-4556-AD4B-FBF52951EB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1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3E26-2087-4A15-9E00-4FD6B6CF25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7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7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7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3895-6772-4E03-8FE2-414A2C90F2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99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1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102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7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7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28BD-B536-4698-B91C-CEB57A2627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4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7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7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7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B932-2567-4B11-8479-F76907A4CC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9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7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8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8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596A-3B17-4252-A49A-2CF4A47ACD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8757-9133-4B00-A7F8-15A64D27D1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8B29-DD01-4530-9620-346B0B50D6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762F-869C-4DDD-B21D-EF14B60136E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4D4A-4608-4112-A47B-726D389E1E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D356-6E4F-41D0-AA78-6B1C012373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3F99-59E3-49B4-9FDA-EC9F5CA0FF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9639-5ABB-4833-8B01-E8CEA030EB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79DE-6126-4452-B2AF-652F85F212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E5F7-2DAF-4EEA-9735-B449E96949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A221-FCC0-4F1F-89B8-C5AD39DF2D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48B2-0A4B-4721-B94C-FB621E5E45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083B-8910-4B68-A41D-E154E8CA87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E421-4419-4C15-A5BE-8760052B3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F8CB-86D7-4053-A365-3430C2AA93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21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олилиния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22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55F5-856D-4147-8F56-3574D8FE417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64BE-D5D6-415C-A592-2ACF0480BA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1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F89D-1AFE-4CAA-9C6C-2276FA1FE1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B61C-21FE-4123-94CA-4D616089B5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Рисунок 5" descr="1,162 Good Manners Stock Photos - Free &amp; Royalty-Free Stock Photos from  Dreamstime"/>
          <p:cNvPicPr/>
          <p:nvPr/>
        </p:nvPicPr>
        <p:blipFill>
          <a:blip r:embed="rId1"/>
          <a:stretch/>
        </p:blipFill>
        <p:spPr>
          <a:xfrm>
            <a:off x="4680" y="17640"/>
            <a:ext cx="4854600" cy="2792160"/>
          </a:xfrm>
          <a:prstGeom prst="rect">
            <a:avLst/>
          </a:prstGeom>
          <a:ln w="0">
            <a:noFill/>
          </a:ln>
        </p:spPr>
      </p:pic>
      <p:pic>
        <p:nvPicPr>
          <p:cNvPr id="1698" name="Рисунок 6" descr="Polite or Rude As a Choice in Life - Pictured As Words Rude, Polite on  Doors To Show that Rude and Polite are Different Options To Stock  Illustration - Illustration of object,"/>
          <p:cNvPicPr/>
          <p:nvPr/>
        </p:nvPicPr>
        <p:blipFill>
          <a:blip r:embed="rId2"/>
          <a:srcRect l="0" t="0" r="0" b="9598"/>
          <a:stretch/>
        </p:blipFill>
        <p:spPr>
          <a:xfrm>
            <a:off x="4983120" y="38160"/>
            <a:ext cx="4068720" cy="2773440"/>
          </a:xfrm>
          <a:prstGeom prst="rect">
            <a:avLst/>
          </a:prstGeom>
          <a:ln w="0">
            <a:noFill/>
          </a:ln>
        </p:spPr>
      </p:pic>
      <p:pic>
        <p:nvPicPr>
          <p:cNvPr id="1699" name="Рисунок 10" descr="Vladislava Alifanova | VK"/>
          <p:cNvPicPr/>
          <p:nvPr/>
        </p:nvPicPr>
        <p:blipFill>
          <a:blip r:embed="rId3"/>
          <a:stretch/>
        </p:blipFill>
        <p:spPr>
          <a:xfrm>
            <a:off x="4983120" y="2870280"/>
            <a:ext cx="4037040" cy="3871800"/>
          </a:xfrm>
          <a:prstGeom prst="rect">
            <a:avLst/>
          </a:prstGeom>
          <a:ln w="0">
            <a:noFill/>
          </a:ln>
        </p:spPr>
      </p:pic>
      <p:pic>
        <p:nvPicPr>
          <p:cNvPr id="1700" name="Рисунок 12" descr="Good manners Images and Stock Photos. 2,070 Good manners photography and  royalty free pictures available to download from thousands of stock photo  providers."/>
          <p:cNvPicPr/>
          <p:nvPr/>
        </p:nvPicPr>
        <p:blipFill>
          <a:blip r:embed="rId4"/>
          <a:srcRect l="0" t="0" r="8079" b="0"/>
          <a:stretch/>
        </p:blipFill>
        <p:spPr>
          <a:xfrm>
            <a:off x="1243080" y="2870280"/>
            <a:ext cx="244620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me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Объект 1" descr=""/>
          <p:cNvPicPr/>
          <p:nvPr/>
        </p:nvPicPr>
        <p:blipFill>
          <a:blip r:embed="rId1"/>
          <a:stretch/>
        </p:blipFill>
        <p:spPr>
          <a:xfrm>
            <a:off x="2268360" y="882720"/>
            <a:ext cx="44643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62329">
              <a:alpha val="25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3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practice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discuss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make a list of 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give a definition of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express personal opinion about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speak about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vis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rming-u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439200" y="1052640"/>
            <a:ext cx="843444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kind of person is considered well-mannered? Give synonyms for the word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well-mannered perso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is it important to have good mann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behavior annoys you the m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usually treat ill-mannered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re good manners univers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7" name="Рисунок 15" descr="C:\Users\User\Desktop\Моя аттестация 2023\УРОК 10 класс\Без названия.jpg"/>
          <p:cNvPicPr/>
          <p:nvPr/>
        </p:nvPicPr>
        <p:blipFill>
          <a:blip r:embed="rId1"/>
          <a:stretch/>
        </p:blipFill>
        <p:spPr>
          <a:xfrm>
            <a:off x="6732720" y="4978440"/>
            <a:ext cx="215424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ll-mannered person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i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457200" y="1197000"/>
            <a:ext cx="85075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Блок-схема: альтернативный процесс 1"/>
          <p:cNvSpPr/>
          <p:nvPr/>
        </p:nvSpPr>
        <p:spPr>
          <a:xfrm>
            <a:off x="457200" y="1341360"/>
            <a:ext cx="2249640" cy="130824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Овал 3"/>
          <p:cNvSpPr/>
          <p:nvPr/>
        </p:nvSpPr>
        <p:spPr>
          <a:xfrm>
            <a:off x="457200" y="2841480"/>
            <a:ext cx="2355840" cy="2027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Блок-схема: перфолента 6"/>
          <p:cNvSpPr/>
          <p:nvPr/>
        </p:nvSpPr>
        <p:spPr>
          <a:xfrm>
            <a:off x="4140360" y="1177920"/>
            <a:ext cx="4033800" cy="15080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TLEMAN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Рисунок 8" descr=""/>
          <p:cNvPicPr/>
          <p:nvPr/>
        </p:nvPicPr>
        <p:blipFill>
          <a:blip r:embed="rId1"/>
          <a:stretch/>
        </p:blipFill>
        <p:spPr>
          <a:xfrm>
            <a:off x="1170000" y="4986360"/>
            <a:ext cx="2328840" cy="1262160"/>
          </a:xfrm>
          <a:prstGeom prst="rect">
            <a:avLst/>
          </a:prstGeom>
          <a:ln w="0">
            <a:noFill/>
          </a:ln>
        </p:spPr>
      </p:pic>
      <p:sp>
        <p:nvSpPr>
          <p:cNvPr id="1714" name="Блок-схема: подготовка 13"/>
          <p:cNvSpPr/>
          <p:nvPr/>
        </p:nvSpPr>
        <p:spPr>
          <a:xfrm>
            <a:off x="3132000" y="3005280"/>
            <a:ext cx="2602080" cy="1180800"/>
          </a:xfrm>
          <a:prstGeom prst="flowChartPreparati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Рисунок 14" descr=""/>
          <p:cNvPicPr/>
          <p:nvPr/>
        </p:nvPicPr>
        <p:blipFill>
          <a:blip r:embed="rId2"/>
          <a:stretch/>
        </p:blipFill>
        <p:spPr>
          <a:xfrm>
            <a:off x="4184640" y="4680000"/>
            <a:ext cx="3816360" cy="1312920"/>
          </a:xfrm>
          <a:prstGeom prst="rect">
            <a:avLst/>
          </a:prstGeom>
          <a:ln w="0">
            <a:noFill/>
          </a:ln>
        </p:spPr>
      </p:pic>
      <p:pic>
        <p:nvPicPr>
          <p:cNvPr id="1716" name="Рисунок 12" descr=""/>
          <p:cNvPicPr/>
          <p:nvPr/>
        </p:nvPicPr>
        <p:blipFill>
          <a:blip r:embed="rId3"/>
          <a:stretch/>
        </p:blipFill>
        <p:spPr>
          <a:xfrm>
            <a:off x="6053040" y="2927520"/>
            <a:ext cx="2683080" cy="1465200"/>
          </a:xfrm>
          <a:prstGeom prst="rect">
            <a:avLst/>
          </a:prstGeom>
          <a:ln w="0">
            <a:noFill/>
          </a:ln>
        </p:spPr>
      </p:pic>
      <p:sp>
        <p:nvSpPr>
          <p:cNvPr id="1717" name="Прямоугольник 16"/>
          <p:cNvSpPr/>
          <p:nvPr/>
        </p:nvSpPr>
        <p:spPr>
          <a:xfrm>
            <a:off x="4821120" y="5014800"/>
            <a:ext cx="25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ECT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Прямоугольник 17"/>
          <p:cNvSpPr/>
          <p:nvPr/>
        </p:nvSpPr>
        <p:spPr>
          <a:xfrm>
            <a:off x="1406520" y="535608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T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Прямоугольник 18"/>
          <p:cNvSpPr/>
          <p:nvPr/>
        </p:nvSpPr>
        <p:spPr>
          <a:xfrm>
            <a:off x="6282360" y="340992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-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1" name="Прямоугольник 3"/>
          <p:cNvSpPr/>
          <p:nvPr/>
        </p:nvSpPr>
        <p:spPr>
          <a:xfrm>
            <a:off x="31680" y="12600"/>
            <a:ext cx="9144000" cy="6858000"/>
          </a:xfrm>
          <a:prstGeom prst="rect">
            <a:avLst/>
          </a:prstGeom>
          <a:solidFill>
            <a:srgbClr val="062329">
              <a:alpha val="25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2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362800" cy="113976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 txBox="1"/>
          <p:nvPr/>
        </p:nvSpPr>
        <p:spPr>
          <a:xfrm>
            <a:off x="457200" y="1480680"/>
            <a:ext cx="8718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annoys me when people …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think it is rude to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hate seeing people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find it very rude when …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drives me mad when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can’t stand when 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24" name="Рисунок 5" descr="Manners in the Workplace - Executive Support Magazine"/>
          <p:cNvPicPr/>
          <p:nvPr/>
        </p:nvPicPr>
        <p:blipFill>
          <a:blip r:embed="rId3"/>
          <a:stretch/>
        </p:blipFill>
        <p:spPr>
          <a:xfrm>
            <a:off x="5394240" y="2992320"/>
            <a:ext cx="37800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sic man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6" name="Объект 6" descr=""/>
          <p:cNvPicPr/>
          <p:nvPr/>
        </p:nvPicPr>
        <p:blipFill>
          <a:blip r:embed="rId1"/>
          <a:stretch/>
        </p:blipFill>
        <p:spPr>
          <a:xfrm>
            <a:off x="0" y="925560"/>
            <a:ext cx="91440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sic man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8" name="Объект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95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Рисунок 2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5256360" cy="5546880"/>
          </a:xfrm>
          <a:prstGeom prst="rect">
            <a:avLst/>
          </a:prstGeom>
          <a:ln w="0">
            <a:noFill/>
          </a:ln>
        </p:spPr>
      </p:pic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sic man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107640" y="836640"/>
            <a:ext cx="8785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would you say in the following situ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418680" y="1125360"/>
            <a:ext cx="84358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lonna MT"/>
              </a:rPr>
              <a:t>Your little brother keeps saying rude words in your pres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lonna MT"/>
              </a:rPr>
              <a:t>You see that a blind man is going to hit his head on a low door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lonna MT"/>
              </a:rPr>
              <a:t>It’s too cold in the room. You are going to shut the window and ask other people’s per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lonna MT"/>
              </a:rPr>
              <a:t>Your friend wants to invite you to a jazz concert and he wants to know how you feel about jaz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lonna MT"/>
              </a:rPr>
              <a:t>As soon as Mr. Brown retired, everyone forgot about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21:05:05Z</dcterms:created>
  <dc:creator>Пользователь</dc:creator>
  <dc:description/>
  <dc:language>en-US</dc:language>
  <cp:lastModifiedBy>Matvey</cp:lastModifiedBy>
  <dcterms:modified xsi:type="dcterms:W3CDTF">2024-08-06T08:51:25Z</dcterms:modified>
  <cp:revision>67</cp:revision>
  <dc:subject/>
  <dc:title>Слайд 1</dc:title>
</cp:coreProperties>
</file>